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9141-9FA6-45C0-8D21-113A2DFB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8362-6DFC-47E9-984E-5496969A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3F38-9ED9-49BB-95BE-430DEBA7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896F-EAA7-4DB0-834C-7F635D80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4A28-DFDA-4713-8A24-45D6B0BF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CE5-0359-4BED-B600-AE2EB986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93BB-975A-438C-8E66-6C1FE70B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2480-04A6-4979-BDE6-9F5CEF98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FE55-78CE-4352-8F57-38DC8201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1DD2-4989-4EE0-BDF6-AFB3589C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1170-1669-437C-B256-9C893E51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A5D3-2E2C-4196-AFFE-53E02995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5BAF6B-2A80-44D4-8144-D49F9AFBE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uture continuo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02996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ache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ould you like to come to our party tomorrow, Andre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ndre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anks for the invitation, but I’ve got lots of work at the moment.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’ll be work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l day tomorr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ache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ou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on’t be work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n Saturday evening, surely. Come on , Andrew, take a break.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e’ll be start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t about en o’clo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will be doing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for continuous a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future action over a period of time. At some time in the future we will b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 the midd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an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ndrew can’t go to the party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e’ll be work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l 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’ll be out at three o’clo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’ll be playing golf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en the men leave the building the polic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ill be waiting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for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uture perfect tense expresses action in the futur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other action in the fut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call me at work at 8am. I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ll have arriv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t the office by 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will be tired when they arrive. The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o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ve slep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a long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Mary won't be at home when you arrive." "Really? Wher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ve go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think of the future perfect tense like the present perfect tense, but instead of your viewpoint being in the present, it is in the futu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o you think you will have finished it by next Thurs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 5 years time I’ll have finished university and I’ll be able to earn some money at l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often use the future perfect with ‘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 or ‘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 think astronauts will have landed on Mars by the year 202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’ll have finished in an hour and then you can use the compu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 means ‘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ot later than a particular ti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 means '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ithin a period of ti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. We don’t know exactly when something will finis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 promise I’ll have done all the work by next Satur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don’t know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actl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he will finish the work – maybe Thursday, maybe Friday – but definitely before Saturday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07:39:35Z</dcterms:created>
  <dc:creator>Paul Filippetto</dc:creator>
  <dc:description/>
  <dc:language>en-US</dc:language>
  <cp:lastModifiedBy>Paul Filippetto</cp:lastModifiedBy>
  <dcterms:modified xsi:type="dcterms:W3CDTF">2012-12-14T08:43:57Z</dcterms:modified>
  <cp:revision>6</cp:revision>
  <dc:subject/>
  <dc:title>Future continuous</dc:title>
</cp:coreProperties>
</file>